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E9E-5CED-4D42-A5F1-3E92F57E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143-A7C3-4AEC-A6B2-52EC334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DB6-C526-46AF-84C3-EA024D6B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94C-BD17-48AD-8404-6F9F922A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ADE-22DD-43B9-9782-60FD0F44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3F9-9073-48EE-B4A0-6C2ECEC6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11F-63B5-4AD1-BCE3-B2EA3AAB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139-CA17-4DF1-B005-2FBEFE90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F3D-2C6E-4AC0-80E8-4E3BD7D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EA3-9DEE-448C-992F-1133C4B6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212-A32E-4E1D-8622-69391F6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FB7-31F2-4C0B-8538-C98A1AA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B6AA-8F1E-4E45-8C84-CE3CD7B16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oes a shooting routine effect how you shoot a free th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olly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 predict that when the basketball girls shoot their free throws and use their routine they will have higher percents rather than shooting free throws with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5 basketball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asketbal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dependent: Shooting free throws with routine VS. no rout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Dependent: Percent of sho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Have girls shoot 5 free throws with their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Have girls shoot 5 free throws without their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out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rra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rah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3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0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Keena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mma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0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stina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0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erc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ith R.: 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ithout R.: 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Thanks to Emma, Keena, Sara, Tarra, and Cristina for participating in my proj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7772400" cy="39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240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40:55Z</dcterms:created>
  <dc:creator>STERLING  USD376</dc:creator>
  <dc:description/>
  <dc:language>en-US</dc:language>
  <cp:lastModifiedBy>STERLING USD376</cp:lastModifiedBy>
  <dcterms:modified xsi:type="dcterms:W3CDTF">2011-03-22T19:53:16Z</dcterms:modified>
  <cp:revision>7</cp:revision>
  <dc:subject/>
  <dc:title>Does a shooting routine really effect how you shoot?</dc:title>
</cp:coreProperties>
</file>